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8.gif" ContentType="image/gif"/>
  <Override PartName="/ppt/media/image16.png" ContentType="image/png"/>
  <Override PartName="/ppt/media/image14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36C68-7CCC-4E64-98A6-83899C6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25A4-3C21-4E58-BFF4-ACB4B0A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7CAA0-E2B4-439A-A549-DC1998CD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93843-5AE0-4119-951D-4A2F494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350C1-01F4-4EC3-863A-6434461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0DCA-15AA-478E-8CD3-4DF99AD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BD35-C878-444D-A6EF-4401B1B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3F3C1-8BCA-4A18-86CF-01901EA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B0C0F-DD4D-46E0-99D8-53C12A3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B876-66E2-4E39-AF87-5361AB5B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3E641-CD37-438B-88BC-EF33F722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5B85F-ED4B-49FF-95E9-80FCD258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71640" cy="664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 rot="16200000">
            <a:off x="-1893240" y="2514240"/>
            <a:ext cx="495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niversità degli studi di Sal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rso di Fondamenti e Metodi Della Prog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 rot="16200000">
            <a:off x="-1705680" y="308196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lessandro Naddeo – S.S.D: ING-IND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97EE-30BF-4254-BEB6-4FCBC185CC6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6524640"/>
            <a:ext cx="586728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Logo Unisa"/>
          <p:cNvPicPr/>
          <p:nvPr/>
        </p:nvPicPr>
        <p:blipFill>
          <a:blip r:embed="rId3"/>
          <a:stretch/>
        </p:blipFill>
        <p:spPr>
          <a:xfrm>
            <a:off x="54000" y="5661000"/>
            <a:ext cx="1133280" cy="1139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1840" y="-270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42920" y="112500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7050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 rot="16200000">
            <a:off x="-1705680" y="3081960"/>
            <a:ext cx="4824360" cy="33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Alessandro Naddeo – S.S.D: ING-IND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lessandro Naddeo – S.S.D: ING-IND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2727360"/>
            <a:ext cx="702324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Calibri"/>
              </a:rPr>
              <a:t>Le sezioni conich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4191120" y="3048120"/>
          <a:ext cx="742680" cy="99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048120"/>
                    <a:ext cx="742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AutoShape 11"/>
          <p:cNvSpPr/>
          <p:nvPr/>
        </p:nvSpPr>
        <p:spPr>
          <a:xfrm>
            <a:off x="1095480" y="4648320"/>
            <a:ext cx="8229600" cy="175248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61560"/>
            <a:ext cx="82087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ＭＳ 明朝"/>
              </a:rPr>
              <a:t>Metodo dei piani ausiliari. Vera forma: parabo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142"/>
          <p:cNvPicPr/>
          <p:nvPr/>
        </p:nvPicPr>
        <p:blipFill>
          <a:blip r:embed="rId1"/>
          <a:stretch/>
        </p:blipFill>
        <p:spPr>
          <a:xfrm>
            <a:off x="1619280" y="907920"/>
            <a:ext cx="7129440" cy="498312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381320" y="6237360"/>
            <a:ext cx="68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ia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siliar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i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ibalta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tor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l’as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ＭＳ 明朝"/>
              </a:rPr>
              <a:t>Metodo dei piani ausiliari. Vera forma: iperb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143"/>
          <p:cNvPicPr/>
          <p:nvPr/>
        </p:nvPicPr>
        <p:blipFill>
          <a:blip r:embed="rId1">
            <a:lum bright="6000"/>
          </a:blip>
          <a:srcRect l="0" t="0" r="0" b="635"/>
          <a:stretch/>
        </p:blipFill>
        <p:spPr>
          <a:xfrm>
            <a:off x="1566720" y="836640"/>
            <a:ext cx="6653520" cy="5256360"/>
          </a:xfrm>
          <a:prstGeom prst="rect">
            <a:avLst/>
          </a:prstGeom>
          <a:ln w="0">
            <a:noFill/>
          </a:ln>
        </p:spPr>
      </p:pic>
      <p:sp>
        <p:nvSpPr>
          <p:cNvPr id="194" name="CasellaDiTesto 4"/>
          <p:cNvSpPr/>
          <p:nvPr/>
        </p:nvSpPr>
        <p:spPr>
          <a:xfrm>
            <a:off x="1020960" y="6308640"/>
            <a:ext cx="68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ia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siliar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i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ibalta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tor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l’as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42840"/>
            <a:ext cx="8101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ＭＳ 明朝"/>
              </a:rPr>
              <a:t>Metodo dei piani ausiliari. Vera forma: Iperb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82"/>
          <p:cNvPicPr/>
          <p:nvPr/>
        </p:nvPicPr>
        <p:blipFill>
          <a:blip r:embed="rId1"/>
          <a:stretch/>
        </p:blipFill>
        <p:spPr>
          <a:xfrm>
            <a:off x="1062000" y="620640"/>
            <a:ext cx="6802560" cy="4969080"/>
          </a:xfrm>
          <a:prstGeom prst="rect">
            <a:avLst/>
          </a:prstGeom>
          <a:ln w="0">
            <a:noFill/>
          </a:ln>
        </p:spPr>
      </p:pic>
      <p:sp>
        <p:nvSpPr>
          <p:cNvPr id="197" name="CasellaDiTesto 4"/>
          <p:cNvSpPr/>
          <p:nvPr/>
        </p:nvSpPr>
        <p:spPr>
          <a:xfrm>
            <a:off x="900000" y="5661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 c’e’ necessità di utilizzare il pia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siliario poiché il piano di sezione è parallelo a uno dei piani princip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  <a:ea typeface="ＭＳ 明朝"/>
              </a:rPr>
              <a:t>Sezione di cilindro ret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130"/>
          <p:cNvPicPr/>
          <p:nvPr/>
        </p:nvPicPr>
        <p:blipFill>
          <a:blip r:embed="rId1">
            <a:lum bright="6000"/>
          </a:blip>
          <a:srcRect l="0" t="0" r="0" b="20712"/>
          <a:stretch/>
        </p:blipFill>
        <p:spPr>
          <a:xfrm>
            <a:off x="1332000" y="907920"/>
            <a:ext cx="3384360" cy="5211720"/>
          </a:xfrm>
          <a:prstGeom prst="rect">
            <a:avLst/>
          </a:prstGeom>
          <a:ln w="0">
            <a:noFill/>
          </a:ln>
        </p:spPr>
      </p:pic>
      <p:sp>
        <p:nvSpPr>
          <p:cNvPr id="200" name="Rettangolo 4"/>
          <p:cNvSpPr/>
          <p:nvPr/>
        </p:nvSpPr>
        <p:spPr>
          <a:xfrm>
            <a:off x="4896000" y="2492280"/>
            <a:ext cx="21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vera forma della sezione è ottenuta con il ribaltamento diretto del piano di s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0760" y="-27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ＭＳ 明朝"/>
              </a:rPr>
              <a:t>Sezione</a:t>
            </a:r>
            <a:r>
              <a:rPr b="0" lang="it-IT" sz="44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ＭＳ 明朝"/>
              </a:rPr>
              <a:t>prisma re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133"/>
          <p:cNvPicPr/>
          <p:nvPr/>
        </p:nvPicPr>
        <p:blipFill>
          <a:blip r:embed="rId1"/>
          <a:srcRect l="11385" t="0" r="0" b="0"/>
          <a:stretch/>
        </p:blipFill>
        <p:spPr>
          <a:xfrm>
            <a:off x="1476360" y="1052640"/>
            <a:ext cx="4064040" cy="5064120"/>
          </a:xfrm>
          <a:prstGeom prst="rect">
            <a:avLst/>
          </a:prstGeom>
          <a:ln w="0">
            <a:noFill/>
          </a:ln>
        </p:spPr>
      </p:pic>
      <p:sp>
        <p:nvSpPr>
          <p:cNvPr id="203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Alessandro Naddeo – S.S.D: ING-IND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tangolo 4"/>
          <p:cNvSpPr/>
          <p:nvPr/>
        </p:nvSpPr>
        <p:spPr>
          <a:xfrm>
            <a:off x="5940360" y="2852640"/>
            <a:ext cx="21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vera forma della sezione è ottenuta con il ribaltamento diretto del piano di s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1872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Sezione di un cilindro con un piano inclinato rispetto alle ba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562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64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ＭＳ 明朝"/>
              </a:rPr>
              <a:t>Metodo dei piani ausiliari. Vera forma: elli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14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76360" y="907920"/>
            <a:ext cx="7056360" cy="504216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308240" y="6308640"/>
            <a:ext cx="68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ia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siliar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i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ibalta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tor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l’as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9640" y="-27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L FUN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Immagine 3" descr="fungo_sezionato.bmp"/>
          <p:cNvPicPr/>
          <p:nvPr/>
        </p:nvPicPr>
        <p:blipFill>
          <a:blip r:embed="rId1"/>
          <a:stretch/>
        </p:blipFill>
        <p:spPr>
          <a:xfrm>
            <a:off x="1403280" y="765000"/>
            <a:ext cx="5483160" cy="4680000"/>
          </a:xfrm>
          <a:prstGeom prst="rect">
            <a:avLst/>
          </a:prstGeom>
          <a:ln w="0">
            <a:noFill/>
          </a:ln>
        </p:spPr>
      </p:pic>
      <p:pic>
        <p:nvPicPr>
          <p:cNvPr id="212" name="Immagine 5" descr="fungo_sezionato.bmp"/>
          <p:cNvPicPr/>
          <p:nvPr/>
        </p:nvPicPr>
        <p:blipFill>
          <a:blip r:embed="rId2"/>
          <a:stretch/>
        </p:blipFill>
        <p:spPr>
          <a:xfrm>
            <a:off x="826920" y="111240"/>
            <a:ext cx="7488360" cy="67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Definizione di Se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00000" y="1413000"/>
            <a:ext cx="7850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ezion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è la rappresentazione in proiezione ortogonale di una delle due parti in cui un oggetto viene diviso da un tagl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realizzazione delle proiezioni si basa su costruzioni grafiche, soprattutto quando i solidi vengono intersecati disposte in maniera obliq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taglio può essere anche solo ideale, e in tal caso quando è necessario migliorare la rappresentazione delle parti interne di oggetti che presentano cavità (UNI 3971); in tal caso si usano in genere solo piani di se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4560" y="115560"/>
            <a:ext cx="7921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erfici con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58560" y="1058760"/>
            <a:ext cx="7705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cesi </a:t>
            </a:r>
            <a:r>
              <a:rPr b="1" lang="it-IT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erficie conica circolare 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lla individuata dalle rette (generatrici) che passano per i punti di una circonferenza e per un punto fisso (vertice) non complanare alla circonferenz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tte le generatrici si incontrano nel vertice, il quale le divide in due semirette che appartengono ognuna ad una delle due falde distinte della superficie conic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 il vertice e’ un punto all’infinito? -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ttangolo 4"/>
          <p:cNvSpPr/>
          <p:nvPr/>
        </p:nvSpPr>
        <p:spPr>
          <a:xfrm>
            <a:off x="7051320" y="49417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ILIN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ＭＳ 明朝"/>
              </a:rPr>
              <a:t>Sezioni Con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87280" y="1052280"/>
            <a:ext cx="7561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cesi sezione conica, o semplicemente conica, la figura ottenuta tagliando una superficie conica con un piano non passante per il vertice.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79"/>
          <p:cNvPicPr/>
          <p:nvPr/>
        </p:nvPicPr>
        <p:blipFill>
          <a:blip r:embed="rId1"/>
          <a:srcRect l="3533" t="10261" r="3533" b="11047"/>
          <a:stretch/>
        </p:blipFill>
        <p:spPr>
          <a:xfrm>
            <a:off x="1042920" y="2997360"/>
            <a:ext cx="76201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Alessandro Naddeo – S.S.D: ING-IND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Ellis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G:\didattica\DTI\finale\file skp\ellisse.jpg"/>
          <p:cNvPicPr/>
          <p:nvPr/>
        </p:nvPicPr>
        <p:blipFill>
          <a:blip r:embed="rId1"/>
          <a:stretch/>
        </p:blipFill>
        <p:spPr>
          <a:xfrm>
            <a:off x="2843280" y="2241720"/>
            <a:ext cx="5000400" cy="4500360"/>
          </a:xfrm>
          <a:prstGeom prst="rect">
            <a:avLst/>
          </a:prstGeom>
          <a:ln w="0">
            <a:noFill/>
          </a:ln>
        </p:spPr>
      </p:pic>
      <p:sp>
        <p:nvSpPr>
          <p:cNvPr id="180" name="Rettangolo 1"/>
          <p:cNvSpPr/>
          <p:nvPr/>
        </p:nvSpPr>
        <p:spPr>
          <a:xfrm>
            <a:off x="1042920" y="907920"/>
            <a:ext cx="79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ndo il piano taglia tutte le generatrici di una falda la linea è chiusa; si ottiene una ellisse che diventa una circonferenza se il piano è normale all'asse del c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Parabol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G:\didattica\DTI\finale\file skp\parabola.jpg"/>
          <p:cNvPicPr/>
          <p:nvPr/>
        </p:nvPicPr>
        <p:blipFill>
          <a:blip r:embed="rId1"/>
          <a:stretch/>
        </p:blipFill>
        <p:spPr>
          <a:xfrm>
            <a:off x="1071720" y="1428840"/>
            <a:ext cx="4357440" cy="4841640"/>
          </a:xfrm>
          <a:prstGeom prst="rect">
            <a:avLst/>
          </a:prstGeom>
          <a:ln w="0">
            <a:noFill/>
          </a:ln>
        </p:spPr>
      </p:pic>
      <p:sp>
        <p:nvSpPr>
          <p:cNvPr id="183" name="Rettangolo 1"/>
          <p:cNvSpPr/>
          <p:nvPr/>
        </p:nvSpPr>
        <p:spPr>
          <a:xfrm>
            <a:off x="5580000" y="2212920"/>
            <a:ext cx="34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ndo il piano taglia tutte le generatrici di una falda tranne una a cui è parallelo la linea è aperta; si ottiene una parab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Iperbo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G:\didattica\DTI\finale\file skp\iperbole.jpg"/>
          <p:cNvPicPr/>
          <p:nvPr/>
        </p:nvPicPr>
        <p:blipFill>
          <a:blip r:embed="rId1"/>
          <a:stretch/>
        </p:blipFill>
        <p:spPr>
          <a:xfrm>
            <a:off x="1116000" y="1341360"/>
            <a:ext cx="4267080" cy="4857840"/>
          </a:xfrm>
          <a:prstGeom prst="rect">
            <a:avLst/>
          </a:prstGeom>
          <a:ln w="0">
            <a:noFill/>
          </a:ln>
        </p:spPr>
      </p:pic>
      <p:sp>
        <p:nvSpPr>
          <p:cNvPr id="186" name="Rettangolo 1"/>
          <p:cNvSpPr/>
          <p:nvPr/>
        </p:nvSpPr>
        <p:spPr>
          <a:xfrm>
            <a:off x="5435640" y="1676520"/>
            <a:ext cx="363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ando il piano è parallelo a due generatrici e taglia entrambe le falde la linea è costituita da due rami distinti aperti; si ottiene una iperbole. Se il piano è parallelo all’asse l’iperbole è reg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magine 2" descr="bpl_anim.gif"/>
          <p:cNvPicPr/>
          <p:nvPr/>
        </p:nvPicPr>
        <p:blipFill>
          <a:blip r:embed="rId1"/>
          <a:stretch/>
        </p:blipFill>
        <p:spPr>
          <a:xfrm>
            <a:off x="2411280" y="620640"/>
            <a:ext cx="504036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54400" y="2565360"/>
            <a:ext cx="58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000000"/>
                </a:solidFill>
                <a:latin typeface="Calibri"/>
              </a:rPr>
              <a:t>Metodi per il disegno di sezioni si solidi elementari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5:43:29Z</dcterms:created>
  <dc:creator/>
  <dc:description/>
  <dc:language>en-US</dc:language>
  <cp:lastModifiedBy/>
  <dcterms:modified xsi:type="dcterms:W3CDTF">2013-04-09T08:17:31Z</dcterms:modified>
  <cp:revision>81</cp:revision>
  <dc:subject/>
  <dc:title>Progettazione Assioma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xiQxxIFsYrnihjR6u6RqbpKCikTCSfaYX6xbBeCZ2-c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5230245477442651099</vt:lpwstr>
  </property>
  <property fmtid="{D5CDD505-2E9C-101B-9397-08002B2CF9AE}" pid="6" name="Google.Documents.RevisionId">
    <vt:lpwstr>04820474369536491306</vt:lpwstr>
  </property>
  <property fmtid="{D5CDD505-2E9C-101B-9397-08002B2CF9AE}" pid="7" name="Google.Documents.Tracking">
    <vt:lpwstr>true</vt:lpwstr>
  </property>
</Properties>
</file>